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23.wmf" ContentType="image/x-wmf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12.wmf" ContentType="image/x-wmf"/>
  <Override PartName="/ppt/media/image27.png" ContentType="image/png"/>
  <Override PartName="/ppt/media/image6.jpeg" ContentType="image/jpeg"/>
  <Override PartName="/ppt/media/image5.jpeg" ContentType="image/jpeg"/>
  <Override PartName="/ppt/media/image18.wmf" ContentType="image/x-wmf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wmf" ContentType="image/x-wmf"/>
  <Override PartName="/ppt/media/image14.png" ContentType="image/png"/>
  <Override PartName="/ppt/media/image15.wmf" ContentType="image/x-wmf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260-316F-4785-975D-73C7E40A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232-4618-40E6-BE4B-C037B0A6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F4C-0AB1-439D-A272-4E3063A7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AB6-8441-473B-8AF8-186F7CB1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7AEC-2165-4FCF-BAD3-F25F26F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81D-E218-4338-8D1A-00B746E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869-D8D0-4E2D-9A0F-3C2C3017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756-248E-4A36-81EE-2E16BD5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934-7722-43EE-92ED-6EEF5D2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5AD-BD78-4F79-AA5D-3805959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47B-2EC5-426C-9E77-6B6B1B3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0F9-11F5-449E-93DA-D2E37A7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621-3F9F-4564-BD64-BBC574927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999080" y="152280"/>
            <a:ext cx="360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ТНА УНИФОРМА</a:t>
            </a:r>
            <a:r>
              <a:rPr b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гет плава бој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Potkapa sa 1 otvorom "/>
          <p:cNvPicPr/>
          <p:nvPr/>
        </p:nvPicPr>
        <p:blipFill>
          <a:blip r:embed="rId1"/>
          <a:stretch/>
        </p:blipFill>
        <p:spPr>
          <a:xfrm>
            <a:off x="914400" y="914400"/>
            <a:ext cx="841320" cy="1359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915120" y="61920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к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opy of kape i sl"/>
          <p:cNvPicPr/>
          <p:nvPr/>
        </p:nvPicPr>
        <p:blipFill>
          <a:blip r:embed="rId2"/>
          <a:stretch/>
        </p:blipFill>
        <p:spPr>
          <a:xfrm>
            <a:off x="2543040" y="914400"/>
            <a:ext cx="1252800" cy="731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766600" y="6192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kape i sl"/>
          <p:cNvPicPr/>
          <p:nvPr/>
        </p:nvPicPr>
        <p:blipFill>
          <a:blip r:embed="rId3"/>
          <a:stretch/>
        </p:blipFill>
        <p:spPr>
          <a:xfrm>
            <a:off x="4300560" y="915840"/>
            <a:ext cx="1238400" cy="995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606560" y="6382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к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Zimska kape"/>
          <p:cNvPicPr/>
          <p:nvPr/>
        </p:nvPicPr>
        <p:blipFill>
          <a:blip r:embed="rId4"/>
          <a:stretch/>
        </p:blipFill>
        <p:spPr>
          <a:xfrm>
            <a:off x="914400" y="2971800"/>
            <a:ext cx="12096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opy (2) of kape i sl"/>
          <p:cNvPicPr/>
          <p:nvPr/>
        </p:nvPicPr>
        <p:blipFill>
          <a:blip r:embed="rId5"/>
          <a:stretch/>
        </p:blipFill>
        <p:spPr>
          <a:xfrm>
            <a:off x="2660760" y="2273400"/>
            <a:ext cx="95256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914040" y="2514600"/>
            <a:ext cx="120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тена ка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326680" y="1990800"/>
            <a:ext cx="16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капа – фантом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Majica k_r"/>
          <p:cNvPicPr/>
          <p:nvPr/>
        </p:nvPicPr>
        <p:blipFill>
          <a:blip r:embed="rId6"/>
          <a:stretch/>
        </p:blipFill>
        <p:spPr>
          <a:xfrm>
            <a:off x="3852720" y="3035160"/>
            <a:ext cx="2219400" cy="2210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4128480" y="2606760"/>
            <a:ext cx="17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ица кратак рук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Majica d_r"/>
          <p:cNvPicPr/>
          <p:nvPr/>
        </p:nvPicPr>
        <p:blipFill>
          <a:blip r:embed="rId7"/>
          <a:stretch/>
        </p:blipFill>
        <p:spPr>
          <a:xfrm>
            <a:off x="612720" y="5410080"/>
            <a:ext cx="3494160" cy="2210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1610280" y="496872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ица дуги рук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Copy (2) of Bermudce, mreze, marame ptj"/>
          <p:cNvPicPr/>
          <p:nvPr/>
        </p:nvPicPr>
        <p:blipFill>
          <a:blip r:embed="rId8"/>
          <a:stretch/>
        </p:blipFill>
        <p:spPr>
          <a:xfrm>
            <a:off x="4330800" y="6324480"/>
            <a:ext cx="1904760" cy="968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4793400" y="579132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ukavice skica"/>
          <p:cNvPicPr/>
          <p:nvPr/>
        </p:nvPicPr>
        <p:blipFill>
          <a:blip r:embed="rId1"/>
          <a:stretch/>
        </p:blipFill>
        <p:spPr>
          <a:xfrm>
            <a:off x="609480" y="914400"/>
            <a:ext cx="2444760" cy="1981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411560" y="638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navlake za šlem, kape"/>
          <p:cNvPicPr/>
          <p:nvPr/>
        </p:nvPicPr>
        <p:blipFill>
          <a:blip r:embed="rId2"/>
          <a:stretch/>
        </p:blipFill>
        <p:spPr>
          <a:xfrm>
            <a:off x="3429000" y="1279440"/>
            <a:ext cx="181944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740760" y="776160"/>
            <a:ext cx="13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лака за ш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6"/>
          <p:cNvGraphicFramePr/>
          <p:nvPr/>
        </p:nvGraphicFramePr>
        <p:xfrm>
          <a:off x="1123920" y="3276720"/>
          <a:ext cx="4610160" cy="18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3276720"/>
                    <a:ext cx="461016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7"/>
          <p:cNvSpPr/>
          <p:nvPr/>
        </p:nvSpPr>
        <p:spPr>
          <a:xfrm>
            <a:off x="2691720" y="290052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уља дуг рук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9"/>
          <p:cNvGraphicFramePr/>
          <p:nvPr/>
        </p:nvGraphicFramePr>
        <p:xfrm>
          <a:off x="1143000" y="5410080"/>
          <a:ext cx="476244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5410080"/>
                    <a:ext cx="4762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622840" cy="6343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203280" y="11430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38080" y="903240"/>
            <a:ext cx="5467320" cy="80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523880" y="990720"/>
          <a:ext cx="3372120" cy="31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337212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5"/>
          <p:cNvSpPr/>
          <p:nvPr/>
        </p:nvSpPr>
        <p:spPr>
          <a:xfrm>
            <a:off x="2804040" y="609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а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Jakna kisna PTJ"/>
          <p:cNvPicPr/>
          <p:nvPr/>
        </p:nvPicPr>
        <p:blipFill>
          <a:blip r:embed="rId3"/>
          <a:stretch/>
        </p:blipFill>
        <p:spPr>
          <a:xfrm>
            <a:off x="611280" y="5181480"/>
            <a:ext cx="392724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454480" y="451656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oнепропусни комп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Pantalone kisne PTJ"/>
          <p:cNvPicPr/>
          <p:nvPr/>
        </p:nvPicPr>
        <p:blipFill>
          <a:blip r:embed="rId4"/>
          <a:stretch/>
        </p:blipFill>
        <p:spPr>
          <a:xfrm>
            <a:off x="4572000" y="5181480"/>
            <a:ext cx="1138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420840" y="1143000"/>
          <a:ext cx="331308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143000"/>
                    <a:ext cx="331308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5"/>
          <p:cNvSpPr/>
          <p:nvPr/>
        </p:nvSpPr>
        <p:spPr>
          <a:xfrm>
            <a:off x="1449360" y="60948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2971800" y="4114800"/>
          <a:ext cx="337176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114800"/>
                    <a:ext cx="33717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elerina"/>
          <p:cNvPicPr/>
          <p:nvPr/>
        </p:nvPicPr>
        <p:blipFill>
          <a:blip r:embed="rId1"/>
          <a:stretch/>
        </p:blipFill>
        <p:spPr>
          <a:xfrm>
            <a:off x="685800" y="838080"/>
            <a:ext cx="2328840" cy="2714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417400" y="83808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ерина за киш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Zimsko belo odelo"/>
          <p:cNvPicPr/>
          <p:nvPr/>
        </p:nvPicPr>
        <p:blipFill>
          <a:blip r:embed="rId2"/>
          <a:stretch/>
        </p:blipFill>
        <p:spPr>
          <a:xfrm>
            <a:off x="457200" y="3962520"/>
            <a:ext cx="4381560" cy="2495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3147840" y="3552840"/>
            <a:ext cx="22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уфлажни комплет за 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Zimsko belo odelo Pantalone"/>
          <p:cNvPicPr/>
          <p:nvPr/>
        </p:nvPicPr>
        <p:blipFill>
          <a:blip r:embed="rId3"/>
          <a:stretch/>
        </p:blipFill>
        <p:spPr>
          <a:xfrm>
            <a:off x="4838760" y="4800600"/>
            <a:ext cx="15429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2679840" y="500040"/>
          <a:ext cx="396216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500040"/>
                    <a:ext cx="39621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5"/>
          <p:cNvSpPr/>
          <p:nvPr/>
        </p:nvSpPr>
        <p:spPr>
          <a:xfrm>
            <a:off x="1768320" y="84312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Џемпер са рол краг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681120" y="3048120"/>
            <a:ext cx="2747880" cy="5790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79000" y="252900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 мајица кратак рук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Takticki prsluk interv"/>
          <p:cNvPicPr/>
          <p:nvPr/>
        </p:nvPicPr>
        <p:blipFill>
          <a:blip r:embed="rId1"/>
          <a:stretch/>
        </p:blipFill>
        <p:spPr>
          <a:xfrm>
            <a:off x="2103480" y="1127160"/>
            <a:ext cx="2305080" cy="2514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576520" y="666720"/>
            <a:ext cx="14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ки прсл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1724040" cy="261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062240" y="3841920"/>
            <a:ext cx="1862280" cy="3165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2495880" y="397656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 термо ве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2541600" y="6703920"/>
            <a:ext cx="1812960" cy="214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279960" y="639612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ра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21:54:36Z</dcterms:created>
  <dc:creator>mandric</dc:creator>
  <dc:description/>
  <dc:language>en-US</dc:language>
  <cp:lastModifiedBy> </cp:lastModifiedBy>
  <dcterms:modified xsi:type="dcterms:W3CDTF">2017-03-03T08:29:14Z</dcterms:modified>
  <cp:revision>4</cp:revision>
  <dc:subject/>
  <dc:title>PowerPoint Presentation</dc:title>
</cp:coreProperties>
</file>